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29C-9C9C-4DF2-BDA3-AA290392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CE7-7E39-440E-BE34-41E2548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00B8D-6213-4138-B8D0-55860FF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81AB-A704-4F39-8466-2E2459F4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29C5B-C872-4493-A711-2FCCED1E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44A9A-0302-4746-81F5-811A012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A458D-7F34-419F-8C94-5032634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8B59-B863-4377-8F9E-6A52E1B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428C9-2D0A-4B9C-930E-E850036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4176A-BBEF-4F2B-917A-E1B22200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5FFA5-D48D-4CB5-9F41-7BEB3D29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4A457-B426-448E-8C0F-029D58A3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4BE-6926-4E0C-B85E-755D90B5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11C0-6C64-46FA-931D-EE34FA8C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93140-A5F0-4143-A23D-592E235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DB7D6-1C5E-412B-9278-86DA60CE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08B2B-AC11-4DA4-BEB0-C059A93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039B-A118-4BDD-9AFA-DE22153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B30B-6DF2-4866-AF16-6FF93A46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802FF-5C53-4BC2-9C2F-B3D508D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87DB-BB4C-4D0B-B243-CD5C6EF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1E02-6A7A-4EDA-B13B-2CB4CDD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16DA4-9FBD-4B15-86AD-F9A1CE0D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CBD-20FE-4C58-825B-4E0E3BF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4E7C4-A964-4E64-B077-491BE9C7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21C55-1EA5-4593-8802-4607FC0E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D596D-C152-4FE8-9FB3-A85CE81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4395A-B320-4CE9-A2B6-585DFB3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49632-DE69-4DE8-9380-4C0BC32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8FA12-8628-4B68-BD67-BD1BB76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09B59-4B6F-4F6F-B0CA-986AC80C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3367-0129-446F-BBD3-FE7BDEA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0619-6D4A-4E3F-9274-018D94A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6592-87F5-4147-91C4-7ECB58D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5FC4-B05C-46CC-ABCE-CBF574C5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07805-21C8-4848-A725-55D8475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AE1BE-A37C-4F45-9877-B694150D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E86A-F0F8-4BC1-9B50-BF92B47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F2B8-90D1-4824-A633-4E5DAF2E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3477-EC29-4506-BDC1-BA663B15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CE268-A2A6-4B49-ACF7-23EDFD12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7445C-D54E-4E0B-9C3C-BDC9DDA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99A44-CE6A-446F-9CCF-D2DE42A2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14D98-59D2-4630-880C-DEFBFBAD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2ECFB-1284-4F5C-B296-29D9AFC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7A8-34A9-4084-AB61-1B15BE9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33839-2D65-4F05-86D5-74033A9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9DB7C-86E8-48DC-93E3-F7E35C4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26730-C8B1-4932-A8C2-B0A779DC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532D-677B-4EF2-8B25-025A9544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19F5E-C9B6-4243-816A-2E90A486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9C483-4C66-4867-9594-141B84AD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07AFD-2659-4072-A800-27B4C75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AC9DF-4FAF-4CFA-83D2-58932B17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DD559-86EB-49CD-91B8-641FE9D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D3DCF-7DFA-4FEF-972F-E9CE5DB5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98E3-084E-448D-B1E0-63873EE8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760B1-27C3-4072-A2CF-45D93F55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ACBB9-4F37-40BA-9D7C-0617FDB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30F66-EA48-4275-AAB4-FCD8DD8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2AD1C-008B-4C59-B9EC-5B69C7E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E040C-7FAB-4DE6-B20A-2FBDF9F8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AEEAB-7186-4E8B-8F38-47137A78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48021-1CF4-4BFF-9B5E-C2A3B448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696D6-16F7-4D6C-91CD-2A787251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814BB-3774-4B0B-879A-34EB365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A488A-9F38-4272-A836-8F29B23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739-4ACE-4D5B-BE4E-3D907A21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6E3FC-A876-4476-924B-B5C97127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05ADD-6D39-4895-BFC8-1F74D7A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5113D-1F00-4E1A-B434-D4825F4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E851A-DFEB-44D8-B4C5-EB084A0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74ACB-7C82-4648-9238-4D8AAA5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33B6E-3A33-4B6E-87B4-044EFAC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00A02-7BD7-46D7-B404-18505948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10EB7-3B06-4963-BC17-1E666EC1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F108C-A19A-4266-B9E9-58C7926F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8A844-E9B9-4C55-93E3-3EAFFE15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1D0-264D-462E-B9F9-6338A625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85969-43B9-49D9-9F89-47DBDB4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D40CA-1654-4253-ACC2-B47F08AA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DFB49-C7D7-4223-914A-9E16C64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11F08-A4EB-4720-8B71-79C3AE0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9BF8F-AC06-4AA7-B8F9-5DE7AC0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2E288-B5B3-49EF-8234-AC8B854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A0F78-3614-48C3-A59F-9B876ED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5442B-9743-4629-BA32-DB78ABE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39BA7-8446-45FD-9ACF-65F5403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0E4CA-9A11-4CD4-9CBC-77341290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69B-65C9-4E97-98CC-D112E48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EC1AF-1930-4B24-9D3C-DC8E10C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98710-25AA-4306-9DC0-2168B613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4F68C-762E-4DC8-90A1-244C125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7EA04-A4F4-4A58-92A4-4A2213CE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116C6-4740-47FE-B8E5-3562666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243D2-356B-40D6-8EF5-38EB783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31083-C79B-4722-BB40-EC77CA3F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3F051-0F29-4FBD-97FE-21A40FB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243C9-DA24-465F-AE0E-49B8ABB1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16666-3E2D-447A-800A-CDBD4E9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579-E7BF-43B1-8B94-A777049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9DE61-7840-4AA3-9AAE-6B4A9A94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65B89-8E6B-48F5-A530-38414696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CF3BE-0E9B-4E8F-9753-71A2C501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3E90B-8023-4EA3-BCC4-4694C01E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C3CF8-50A6-489A-9BAA-27901B7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54EC1-866A-4F04-988B-E121672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F4670-8784-435A-8EB3-4219489B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ED4FB-C231-4073-BA70-0B6BE74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84139-9135-4393-B260-0D5BD36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DBDB1-08B7-46D1-8680-4EC8C4E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279-B2C4-45A9-A715-904A2C4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7E4-3C9F-4AD0-A256-C714AE0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597E5-A4A4-40A0-ACB1-ED027F5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D74C5-2901-4D32-9348-FF23349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FBA5C-3A29-49E5-A816-9940402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7556D-4769-45E3-99A1-4862453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EE3D3-6DA1-4B9A-A57A-5F3511BF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BBE75-7F92-4344-AB8F-CE263BF3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DA94D-ECB5-4947-9156-3B88E1A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F3481-0288-49F1-9A6D-F3E415F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69C70-0663-4E96-8D6E-633EBC7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FA54E-0233-4DB9-8338-81D2189F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7AD5-2866-4D22-82D0-966CFC9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6FE4F1-CD02-4BC5-B366-70290A82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CD36C-AB2F-4E05-975A-09335DE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B68E7-2C18-4088-8902-01E3A86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DB4D2-85FD-4473-9F89-A947B5B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B8CA8-676F-4776-B043-E0B4626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1A49D-A9C9-4A41-A965-8D90BFF8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B122D-5CEE-45B8-9BD7-D9867389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3FF82-577A-4205-8054-4B2E8B78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6F63B-F8FF-4E92-ACB1-FEFF0CB1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E3FEC-1ED5-4089-948D-1E50A83F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921-EE69-424D-A0EF-B1CB276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E3B3E-2147-4C00-9CF0-5D8B880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E7404-6B33-4002-B927-05820DBC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FEC91-E261-472B-B8C0-435A2737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EB75B-618B-47D5-A109-44CBDB9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0782E-F608-4AFA-BBB8-DE582BA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765B6-0E8A-4BC3-9D84-2BBD72B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5E829-92C3-456D-9F63-65FCF460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E02B3-821C-4BE1-8302-509E3B32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B65CE-E15A-48C7-BC9C-118BFAA4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D350A-8DD3-4F0E-95F4-69B02333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37C-DE5F-4B43-A4F5-600ED5C0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9641E9-19E4-44FD-83D1-966E2960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C5238-3653-4FAA-9183-5461387B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7F310-9897-4AD9-9782-6A25079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27ABD-C89E-4435-98F4-2962E4D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353E0-29D2-49A2-89CD-4F4B35F6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E7B4F9-1945-4696-BCBD-488B016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3EC5B-878F-4700-9114-9AD73BB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6B429-73CD-4A54-A32B-AF35558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94415-B9FF-49D2-B39D-F1C26DD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47CA3-B630-490D-A122-DBD36D6C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412-405A-4A75-8C32-2288C3D2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832FD-418B-4405-A9F5-5817C0FD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9BBA0-CA60-470D-BF0F-19B27C56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BC3A2-CFC2-40C1-B637-0413C2EC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DD7B7D-BFED-4588-9E05-FDD6C3F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C608D6-9198-4E7F-8576-E16413A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5D10B-6811-4013-8FD9-D3AA0EB1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D1BCC-BDAE-40E1-A678-E99AAEDF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937CC-460A-4E6D-AC68-9488D42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F4A03-1738-435D-ACEF-899B69A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880A4-4633-49B8-A1C4-0C47384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90DB-2EA4-436C-9569-D79EC17A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26D47-6FC0-43C9-88F6-CEF8070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C6D2F-2F0D-4CFC-971B-3275C44B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93B2F-5084-48E0-9B5C-C7C5D0AD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46FAF-E74E-4A08-9D39-47BB8CFC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48B2D-F88D-4937-9B76-C653C4C2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C4A5E-6F4B-4CD6-804B-5C87F74C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B9FADD-0C53-41D8-B940-95EECB3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70262D-0513-46F5-9917-2448D556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BC110-82DD-406B-9F82-0E5792D0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0D590-4E0A-4082-967A-B59ED38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670E-E0C2-462D-AFA7-D79A8BC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7428A-2A22-4532-87CB-2A3D7E6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56BA4-5B84-44FE-B9EC-D2B2E45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649832-B647-45F9-88C3-EE64047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5E0CAF-84DD-4585-AF3E-FC50903C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3F6E5-E0C2-4F38-9F1F-35D4AED3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B2CF85-AE4D-4A21-94F4-46768918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BF6E2-1F93-48EF-B5E9-11B63B5D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23F0C-B1FA-4F79-AF2E-47686D0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76900-FE5D-4EF0-B477-8796BC7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3E27B-66D2-4330-8DCF-0993620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FA08-43DD-41DC-986E-56DDEF4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B1FD83-75A7-4C00-B0AA-958E97F5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F1006A-0B28-47FC-A517-961D178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7FEF8-86F1-4927-AF9B-5B0F5D1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C24B6-6359-480F-B34F-66BF270B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F30CA-A3F3-40BF-8112-A5858340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148AA4-6A99-4761-B0E0-E501A44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60E13-513C-4380-BF10-D7AADDD4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DC6F-4BDD-4B7F-84A1-CD254C54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B498-2EA0-4A54-A2C2-A1B92114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7E9-7076-4D0E-9C31-836D215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D89A-F83A-4B50-9AF2-A93662A3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EAD5-B4FF-4E9D-BD9A-93770ED4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A738-CE7A-4303-B70B-D635CFD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0798-024A-414E-9E09-8092DEC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401E-C76B-494E-9087-9D58B96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7B7B-DAEF-4180-8AAB-1C667FB4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4AF7-0FBC-4DFB-91A0-951128CD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CBD4-5D37-4FBB-9B85-523A9D10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66AE-83FF-4048-8892-FC179EE9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B75B-96FD-4683-B53E-760C919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547-0173-4512-B030-44F8D78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27A6-E96A-418C-9DD4-5365B87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8079-0204-48E9-AB7A-1766ABA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D6D2-8DCC-419B-8F43-E2659A3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DFDB-E329-491D-8886-0B5F87B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A2A1-A2D8-4F10-AEA0-155F895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15B4-BC04-4C98-90C0-58DB1EB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EF54-F8AB-4EB5-B4C6-3A608CF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A0AB-C6F0-4F8E-8AF1-722EFA5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9B6C-83E6-407B-AA18-18574EC4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0430-3B05-400E-BD6C-F9BD5E8E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3DD-E4B8-42BF-9C46-B79C4B32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E74B-D4C5-49EC-9A91-1313969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0552-19D1-4559-8CA4-23B36CBD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0B13-236C-4DCA-A36F-7276249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6F36-9DFF-45FD-A42A-5C0E5E7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50B7-A041-46FA-A04F-CCB0043A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9197-5A7A-45F5-905C-D357CE8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4B37-4E6B-4435-82B9-1794C86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DFE1-0F56-4338-8FE9-0365F94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061C-870B-4ABB-8BF1-6D316A3E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CE47-268E-4431-84FD-04B59FD3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335-AD5A-49F6-9BD2-E930C14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0E8E-55F3-46DC-B1C6-509D1D02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7964-175D-4063-9889-86C6FCB3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87C86-3C8B-4191-8A3E-2C35900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8D0E-9A25-4C5B-B8E0-B709CA6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4CF3-E1C9-46E9-A34A-1077A4F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31CB4-00C6-4712-9123-D330607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79FF-8BE2-4FB7-9B8B-D945296B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EBCA-C9EB-4728-92C9-36143E1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F37A-5D9A-4593-A877-F36D378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C6E6-3C95-4DE7-8FCF-699C6A3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4BC-27C2-491C-B32A-74B8FA6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B86D-159B-4F35-B3B6-2F4717B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CA4C-C098-44BB-8091-8FF5D5F2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94A7-84CD-4866-9BE4-53FD1347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683E9-84AE-48BD-BB0F-0FFB7D68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653E-A175-4DB9-9A3E-5A552359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1D8E-D1F8-45BD-818E-C6461E26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F78F1-83F9-45A2-A566-B3813611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DCF4-3D9D-4DE1-B54F-5221DD5B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76BF-73B0-4167-AB02-37F6535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A1E2-FC5D-4716-9B40-BF6DB53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383-B823-4B0B-A6F2-1A78EAD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86CD-E822-4F31-A513-5C23CFA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46D1-CA35-419D-8015-7362C1D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2590-4291-4390-8092-E6C7A000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A098-CAC9-4EE8-B275-DF6BF22C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85BA-3C02-4AAF-A812-AC538F80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7640F-1CEB-479E-B5B0-0C67626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9123-7153-4243-A232-249BA0C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854E-CBEB-4F1C-A4D0-4D0A00A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59E7-E503-4FC4-B51A-5F6DC2A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C2F80-6F79-4DF8-BAEA-1EF0645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FA6-6F01-472F-BD1F-FB8A771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429E-C2FB-4963-A8A2-1751394F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ECF7-778A-4CBA-8A05-9EAC3CE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7C1F-980B-4739-8B4B-32F4BCF9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6BA5D-2E4C-4C49-AA84-E28DEA8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EF9D-6A44-4B68-A90E-B39EA0C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AABD7-7CE3-4E30-A03E-A8740D2B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A918-CEAF-4991-B8C4-158BAFFF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1D350-2B09-49F2-865A-ED95C537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462B-432D-44D6-A6C2-8662741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C7CA6-7DB2-476D-9516-CF1330E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CA4F-D0C1-4DDC-AE0B-1A1EC2316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45BE-DCBE-4F0F-A770-E21B805BA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A0B-0AD9-4196-B329-0A0E1B406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410-0E7A-42FE-9A7F-138A2D981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3FA8-78CA-4308-BFB7-8B3F17D33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655-7B67-421A-807F-5EEB29DB6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63B6-3A94-4E9E-88BB-4F53DAE44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93A-6202-434B-BB94-7E7E52A3B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B37-9EDC-4465-9F2A-D521DE632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C79-F1B4-4EE6-B4E9-925993F80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CDF-43AA-48B0-B61D-B102DD3203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C36C-85F9-4074-9799-EAFF0A15D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4F9-F868-4D51-92E4-EBD866525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2B2-EBF9-496F-87AA-8E138A8E57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53E9-C279-4E1E-8AC8-F46C1F971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405F-8C02-4F80-A18B-F232DCC62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3884-FF09-43B9-9FCA-F2004CA0B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0877-BD15-4DFF-9439-858BEB37D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28C-DFB4-439C-8951-149CD07FB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BA2-8CD0-42FB-AFC5-647FC7EC1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C50-3F37-4F19-BF53-090C1B7F5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11B-BDB4-4D16-9B27-C9FFA20FD0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585-95F8-4538-AAC7-A0E7A182B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6C4-A19A-4705-B67B-D52560746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DAE2-19A4-4175-BB4D-C25E96DD36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383-204F-45F3-B3AA-6CA82D3A2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0E0-379A-40D7-8873-10A99A1A4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E3B-B152-4E8D-818F-BF1363868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40C-82FE-4526-83A5-94E631191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8A3-F3D5-40C6-85BE-DAD53848C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C25-62E2-43B9-8EC1-0A6494798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7DD-C9C7-49C7-BF78-479CDEBE28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3DDC-332A-451C-B2DD-D531CC80E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F122-F6C2-4A5E-8B5D-9C04B11EFF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9B0B-1F24-472E-B7F2-FAB77C827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7D3C-B2FA-40F6-9E30-F90D2265D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613-6DE8-46E3-8786-95C4F90CD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2D4-18CF-4988-A623-C3926012E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BBD5-3BA3-4729-8697-8D2598083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7160-DB47-4AF9-968C-A26D6EC29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874-4BE7-4447-8CC9-51521209B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0975-9CA9-4B91-AB09-CE91139F0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0" y="2637000"/>
            <a:ext cx="9048600" cy="2628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62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728640" y="1752480"/>
            <a:ext cx="7685280" cy="33530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5"/>
          <a:stretch/>
        </p:blipFill>
        <p:spPr>
          <a:xfrm>
            <a:off x="104292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6"/>
          <a:stretch/>
        </p:blipFill>
        <p:spPr>
          <a:xfrm>
            <a:off x="1014480" y="31989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7"/>
          <a:stretch/>
        </p:blipFill>
        <p:spPr>
          <a:xfrm>
            <a:off x="1042920" y="3573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8"/>
          <a:stretch/>
        </p:blipFill>
        <p:spPr>
          <a:xfrm>
            <a:off x="1042920" y="3933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9"/>
          <a:stretch/>
        </p:blipFill>
        <p:spPr>
          <a:xfrm>
            <a:off x="1042920" y="429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10"/>
          <a:stretch/>
        </p:blipFill>
        <p:spPr>
          <a:xfrm>
            <a:off x="1042920" y="46814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158760" y="781200"/>
            <a:ext cx="882792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95400" y="987480"/>
            <a:ext cx="8858160" cy="2085840"/>
          </a:xfrm>
          <a:prstGeom prst="rect">
            <a:avLst/>
          </a:prstGeom>
          <a:ln w="0">
            <a:noFill/>
          </a:ln>
        </p:spPr>
      </p:pic>
      <p:pic>
        <p:nvPicPr>
          <p:cNvPr id="1167" name="图片 2" descr=""/>
          <p:cNvPicPr/>
          <p:nvPr/>
        </p:nvPicPr>
        <p:blipFill>
          <a:blip r:embed="rId2"/>
          <a:stretch/>
        </p:blipFill>
        <p:spPr>
          <a:xfrm>
            <a:off x="142920" y="3073320"/>
            <a:ext cx="8915400" cy="328464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3"/>
          <a:stretch/>
        </p:blipFill>
        <p:spPr>
          <a:xfrm>
            <a:off x="453960" y="239220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5"/>
          <a:stretch/>
        </p:blipFill>
        <p:spPr>
          <a:xfrm>
            <a:off x="395280" y="4221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6"/>
          <a:stretch/>
        </p:blipFill>
        <p:spPr>
          <a:xfrm>
            <a:off x="468360" y="53164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图片 1" descr=""/>
          <p:cNvPicPr/>
          <p:nvPr/>
        </p:nvPicPr>
        <p:blipFill>
          <a:blip r:embed="rId1"/>
          <a:stretch/>
        </p:blipFill>
        <p:spPr>
          <a:xfrm>
            <a:off x="61920" y="2143080"/>
            <a:ext cx="9018720" cy="257184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2"/>
          <a:stretch/>
        </p:blipFill>
        <p:spPr>
          <a:xfrm>
            <a:off x="324000" y="21034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85680" y="468360"/>
            <a:ext cx="89726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图片 1" descr=""/>
          <p:cNvPicPr/>
          <p:nvPr/>
        </p:nvPicPr>
        <p:blipFill>
          <a:blip r:embed="rId1"/>
          <a:stretch/>
        </p:blipFill>
        <p:spPr>
          <a:xfrm>
            <a:off x="57240" y="781200"/>
            <a:ext cx="9029520" cy="52956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5"/>
          <a:stretch/>
        </p:blipFill>
        <p:spPr>
          <a:xfrm>
            <a:off x="32400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图片 1" descr=""/>
          <p:cNvPicPr/>
          <p:nvPr/>
        </p:nvPicPr>
        <p:blipFill>
          <a:blip r:embed="rId1"/>
          <a:stretch/>
        </p:blipFill>
        <p:spPr>
          <a:xfrm>
            <a:off x="635040" y="2692440"/>
            <a:ext cx="6180120" cy="18954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图片 1" descr=""/>
          <p:cNvPicPr/>
          <p:nvPr/>
        </p:nvPicPr>
        <p:blipFill>
          <a:blip r:embed="rId1"/>
          <a:stretch/>
        </p:blipFill>
        <p:spPr>
          <a:xfrm>
            <a:off x="162000" y="676440"/>
            <a:ext cx="8820000" cy="61149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2"/>
          <a:stretch/>
        </p:blipFill>
        <p:spPr>
          <a:xfrm>
            <a:off x="755640" y="6394320"/>
            <a:ext cx="4248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图片 1" descr=""/>
          <p:cNvPicPr/>
          <p:nvPr/>
        </p:nvPicPr>
        <p:blipFill>
          <a:blip r:embed="rId1"/>
          <a:stretch/>
        </p:blipFill>
        <p:spPr>
          <a:xfrm>
            <a:off x="128520" y="1905120"/>
            <a:ext cx="8885160" cy="30477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2"/>
          <a:stretch/>
        </p:blipFill>
        <p:spPr>
          <a:xfrm>
            <a:off x="611280" y="2274840"/>
            <a:ext cx="453708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3"/>
          <a:stretch/>
        </p:blipFill>
        <p:spPr>
          <a:xfrm>
            <a:off x="684360" y="3025800"/>
            <a:ext cx="669600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669600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6696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图片 1" descr=""/>
          <p:cNvPicPr/>
          <p:nvPr/>
        </p:nvPicPr>
        <p:blipFill>
          <a:blip r:embed="rId1"/>
          <a:stretch/>
        </p:blipFill>
        <p:spPr>
          <a:xfrm>
            <a:off x="133200" y="841320"/>
            <a:ext cx="8877600" cy="52959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"/>
          <a:stretch/>
        </p:blipFill>
        <p:spPr>
          <a:xfrm>
            <a:off x="1258920" y="1585800"/>
            <a:ext cx="1009440" cy="349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3"/>
          <a:stretch/>
        </p:blipFill>
        <p:spPr>
          <a:xfrm>
            <a:off x="5724360" y="1960560"/>
            <a:ext cx="71928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4"/>
          <a:stretch/>
        </p:blipFill>
        <p:spPr>
          <a:xfrm>
            <a:off x="3319560" y="2722680"/>
            <a:ext cx="71892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5"/>
          <a:stretch/>
        </p:blipFill>
        <p:spPr>
          <a:xfrm>
            <a:off x="2268360" y="3097080"/>
            <a:ext cx="1008360" cy="3495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6"/>
          <a:stretch/>
        </p:blipFill>
        <p:spPr>
          <a:xfrm>
            <a:off x="900000" y="348624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7"/>
          <a:stretch/>
        </p:blipFill>
        <p:spPr>
          <a:xfrm>
            <a:off x="2700360" y="423540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8"/>
          <a:stretch/>
        </p:blipFill>
        <p:spPr>
          <a:xfrm>
            <a:off x="3059280" y="4610160"/>
            <a:ext cx="71892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9"/>
          <a:stretch/>
        </p:blipFill>
        <p:spPr>
          <a:xfrm>
            <a:off x="2700360" y="49989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10"/>
          <a:stretch/>
        </p:blipFill>
        <p:spPr>
          <a:xfrm>
            <a:off x="5364000" y="5373720"/>
            <a:ext cx="129564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11"/>
          <a:stretch/>
        </p:blipFill>
        <p:spPr>
          <a:xfrm>
            <a:off x="2354400" y="5748480"/>
            <a:ext cx="12952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9440" y="704880"/>
            <a:ext cx="7418520" cy="35812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09440" y="4286160"/>
            <a:ext cx="8913960" cy="2533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395280" y="472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46836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图片 1" descr=""/>
          <p:cNvPicPr/>
          <p:nvPr/>
        </p:nvPicPr>
        <p:blipFill>
          <a:blip r:embed="rId1"/>
          <a:stretch/>
        </p:blipFill>
        <p:spPr>
          <a:xfrm>
            <a:off x="914400" y="857160"/>
            <a:ext cx="7315200" cy="514368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2"/>
          <a:stretch/>
        </p:blipFill>
        <p:spPr>
          <a:xfrm>
            <a:off x="4673520" y="4797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3"/>
          <a:stretch/>
        </p:blipFill>
        <p:spPr>
          <a:xfrm>
            <a:off x="2050920" y="557532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图片 1" descr=""/>
          <p:cNvPicPr/>
          <p:nvPr/>
        </p:nvPicPr>
        <p:blipFill>
          <a:blip r:embed="rId1"/>
          <a:stretch/>
        </p:blipFill>
        <p:spPr>
          <a:xfrm>
            <a:off x="119160" y="1738440"/>
            <a:ext cx="8904240" cy="338112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3"/>
          <a:stretch/>
        </p:blipFill>
        <p:spPr>
          <a:xfrm>
            <a:off x="1187280" y="39481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4"/>
          <a:stretch/>
        </p:blipFill>
        <p:spPr>
          <a:xfrm>
            <a:off x="1187280" y="47102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图片 1" descr=""/>
          <p:cNvPicPr/>
          <p:nvPr/>
        </p:nvPicPr>
        <p:blipFill>
          <a:blip r:embed="rId1"/>
          <a:stretch/>
        </p:blipFill>
        <p:spPr>
          <a:xfrm>
            <a:off x="157320" y="843120"/>
            <a:ext cx="882792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1" descr=""/>
          <p:cNvPicPr/>
          <p:nvPr/>
        </p:nvPicPr>
        <p:blipFill>
          <a:blip r:embed="rId1"/>
          <a:stretch/>
        </p:blipFill>
        <p:spPr>
          <a:xfrm>
            <a:off x="123840" y="2309760"/>
            <a:ext cx="8896320" cy="223848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2"/>
          <a:stretch/>
        </p:blipFill>
        <p:spPr>
          <a:xfrm>
            <a:off x="900000" y="3400560"/>
            <a:ext cx="1295640" cy="349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3"/>
          <a:stretch/>
        </p:blipFill>
        <p:spPr>
          <a:xfrm>
            <a:off x="2857680" y="33861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4"/>
          <a:stretch/>
        </p:blipFill>
        <p:spPr>
          <a:xfrm>
            <a:off x="5148360" y="34005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5"/>
          <a:stretch/>
        </p:blipFill>
        <p:spPr>
          <a:xfrm>
            <a:off x="7524720" y="34005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6"/>
          <a:stretch/>
        </p:blipFill>
        <p:spPr>
          <a:xfrm>
            <a:off x="800280" y="37893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7"/>
          <a:stretch/>
        </p:blipFill>
        <p:spPr>
          <a:xfrm>
            <a:off x="2857680" y="37893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8"/>
          <a:stretch/>
        </p:blipFill>
        <p:spPr>
          <a:xfrm>
            <a:off x="5148360" y="37893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9"/>
          <a:stretch/>
        </p:blipFill>
        <p:spPr>
          <a:xfrm>
            <a:off x="7524720" y="378936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10"/>
          <a:stretch/>
        </p:blipFill>
        <p:spPr>
          <a:xfrm>
            <a:off x="900000" y="4176720"/>
            <a:ext cx="129564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11"/>
          <a:stretch/>
        </p:blipFill>
        <p:spPr>
          <a:xfrm>
            <a:off x="2857680" y="4176720"/>
            <a:ext cx="12952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图片 1" descr=""/>
          <p:cNvPicPr/>
          <p:nvPr/>
        </p:nvPicPr>
        <p:blipFill>
          <a:blip r:embed="rId1"/>
          <a:stretch/>
        </p:blipFill>
        <p:spPr>
          <a:xfrm>
            <a:off x="111240" y="863640"/>
            <a:ext cx="89233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图片 1" descr=""/>
          <p:cNvPicPr/>
          <p:nvPr/>
        </p:nvPicPr>
        <p:blipFill>
          <a:blip r:embed="rId1"/>
          <a:stretch/>
        </p:blipFill>
        <p:spPr>
          <a:xfrm>
            <a:off x="123840" y="2014560"/>
            <a:ext cx="8896320" cy="28288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2"/>
          <a:stretch/>
        </p:blipFill>
        <p:spPr>
          <a:xfrm>
            <a:off x="100080" y="1989000"/>
            <a:ext cx="8893080" cy="34956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3"/>
          <a:stretch/>
        </p:blipFill>
        <p:spPr>
          <a:xfrm>
            <a:off x="85680" y="2378160"/>
            <a:ext cx="8893080" cy="3492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4"/>
          <a:stretch/>
        </p:blipFill>
        <p:spPr>
          <a:xfrm>
            <a:off x="142920" y="2752560"/>
            <a:ext cx="8893080" cy="34956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5"/>
          <a:stretch/>
        </p:blipFill>
        <p:spPr>
          <a:xfrm>
            <a:off x="108000" y="3127320"/>
            <a:ext cx="8893080" cy="3492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6"/>
          <a:stretch/>
        </p:blipFill>
        <p:spPr>
          <a:xfrm>
            <a:off x="71280" y="3516480"/>
            <a:ext cx="889344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7"/>
          <a:stretch/>
        </p:blipFill>
        <p:spPr>
          <a:xfrm>
            <a:off x="108000" y="3890880"/>
            <a:ext cx="889308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8"/>
          <a:stretch/>
        </p:blipFill>
        <p:spPr>
          <a:xfrm>
            <a:off x="128520" y="4264200"/>
            <a:ext cx="8893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495360" y="1943280"/>
            <a:ext cx="8153280" cy="2971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530280" y="406440"/>
            <a:ext cx="8085240" cy="63802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826920" y="2997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826920" y="5516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27080" y="731880"/>
            <a:ext cx="6057720" cy="39996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2" descr=""/>
          <p:cNvPicPr/>
          <p:nvPr/>
        </p:nvPicPr>
        <p:blipFill>
          <a:blip r:embed="rId2"/>
          <a:stretch/>
        </p:blipFill>
        <p:spPr>
          <a:xfrm>
            <a:off x="266760" y="1314360"/>
            <a:ext cx="8610480" cy="4943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3348000" y="2075040"/>
            <a:ext cx="86364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6516720" y="265104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7496280" y="3817800"/>
            <a:ext cx="1179360" cy="3495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6012000" y="4710240"/>
            <a:ext cx="117936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3089160" y="5686560"/>
            <a:ext cx="14115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42840" y="677880"/>
            <a:ext cx="9056880" cy="5905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6"/>
          <a:stretch/>
        </p:blipFill>
        <p:spPr>
          <a:xfrm>
            <a:off x="32400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49320" y="525600"/>
            <a:ext cx="9045360" cy="62784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4"/>
          <a:stretch/>
        </p:blipFill>
        <p:spPr>
          <a:xfrm>
            <a:off x="39528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5"/>
          <a:stretch/>
        </p:blipFill>
        <p:spPr>
          <a:xfrm>
            <a:off x="324000" y="3871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6"/>
          <a:stretch/>
        </p:blipFill>
        <p:spPr>
          <a:xfrm>
            <a:off x="395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7"/>
          <a:stretch/>
        </p:blipFill>
        <p:spPr>
          <a:xfrm>
            <a:off x="395280" y="5734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133200" y="776160"/>
            <a:ext cx="8877600" cy="263700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326880" y="3517920"/>
            <a:ext cx="8332920" cy="29145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6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133200" y="965160"/>
            <a:ext cx="8877600" cy="513252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9:4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